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1A02-C037-4E9F-A82E-4C1B11E0D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94E1-817C-4148-A551-30AD62D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2684-31D7-407A-AD79-2E8D00D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728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280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728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280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CC5B-7398-45CA-9B76-DF526028E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26E35-CEF5-4B66-853F-3F3217A92D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7CA77-565C-4539-91D0-B6C8593BA0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BFD68-B0E5-4B5F-8486-33FE60B93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D27EF-690D-43E6-94EE-002839734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B846E-B477-43E0-B825-AFE03FA3A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228240"/>
            <a:ext cx="8178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1A5B3-4514-43CD-BE82-B70F7A652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940F9-EC0F-465F-88C8-8BCF75D07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E2C4-B6EA-4CA0-85C2-447CEEE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7B2BF-50BD-4343-94F3-355EA19A4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44DD4-8CE8-42A1-92EB-089146F080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59ED-81CD-4E17-9EED-607BEEE1F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830B0-5D02-4FDE-90F6-9D956AF3D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728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2800" y="13780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728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2800" y="3822480"/>
            <a:ext cx="2633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52507-CEDB-4FA3-9784-264962CB2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567F-00C5-4A43-8E4D-ED06DF82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1AA1-E191-4B43-B313-C5FA7F8B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88C6-4085-4D4E-8861-DCFD1636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228240"/>
            <a:ext cx="81788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BBEC-444E-458B-A56C-FDCA3ADA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9C2A-5470-4E89-8469-127A6040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2520" y="38224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4B6D-346C-49F2-A03C-84E3B73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2520" y="1378080"/>
            <a:ext cx="3990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22480"/>
            <a:ext cx="8178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0D4B-D828-4FA3-82F0-4447F58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8080"/>
            <a:ext cx="8178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6600c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17880" y="6433920"/>
            <a:ext cx="12700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         </a:t>
            </a: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24.10</a:t>
            </a:r>
            <a:r>
              <a:rPr b="0" lang="fi-FI" sz="1000" spc="-1" strike="noStrike">
                <a:solidFill>
                  <a:srgbClr val="5e574e"/>
                </a:solidFill>
                <a:latin typeface="Comic Sans MS"/>
              </a:rPr>
              <a:t>.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715160" y="6433920"/>
            <a:ext cx="12700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Sivu  </a:t>
            </a:r>
            <a:fld id="{313BC50A-94A9-4776-998D-80B83DDDAED6}" type="slidenum">
              <a:rPr b="0" lang="en-US" sz="1000" spc="-1" strike="noStrike">
                <a:solidFill>
                  <a:srgbClr val="5e574e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5e574e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14400" y="907920"/>
            <a:ext cx="8229600" cy="384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6345360"/>
            <a:ext cx="2827080" cy="34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19240" y="6434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nceptia 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3280" y="1196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49640" y="632412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603840" y="632412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AC69-6137-4C5D-B62E-44DE10C29F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252900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34920" y="189000"/>
            <a:ext cx="6048360" cy="752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48360" y="189000"/>
            <a:ext cx="1224000" cy="88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240" y="6434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nceptia 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6600cc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280" y="1196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Yleinen kuljetuskehys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ID 1.2.246.777.11.2003.x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8920" y="3644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TP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SOAP Määrityk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Timo Itälä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18.12.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Lähete/Hoitopalaute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2492280"/>
            <a:ext cx="52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Lähete/Hoitopalautesanoman schema kattaa sekä lähetteen että hoitopalaut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REFS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RE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REF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84508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1D5E-82EA-4295-8EA6-BA5359503D8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3FBFF-4F3E-4152-8FCD-0A18AAAD6ECC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Lähete/Hoitopalautteen kuittaus LAHEKU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655640" y="3392640"/>
            <a:ext cx="658836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Lähete/Hoitopalautesanoman schema kattaa sekä lähetteen että hoitopalaut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MAIN_LEVEL xmlns:arb="urn::refdb-body"&gt;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MAIN_LEVE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13380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AF7F-F156-4EF2-A0D7-348E969483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55A20-89D1-46E3-A901-6F42296F16B8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Kehyksen Action-elementin ja Bodyn metodin vastaavuudet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6360" y="1592280"/>
          <a:ext cx="8178840" cy="44924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3697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o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eaihioiden lähet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ers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K 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he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K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atun sisällön kys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RY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itatun sisällön vas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A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ähete/Hoitopala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ähete/Hoitopalautteen kuitta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_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it san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itB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A647-3DE7-4924-8859-4CF14100892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A7257-C820-40E3-AB70-D62532414AFF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6600cc"/>
                </a:solidFill>
                <a:latin typeface="Comic Sans MS"/>
              </a:rPr>
              <a:t>Toimituspaketti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168640"/>
            <a:ext cx="270036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Kokonaiset san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Sche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Tämä Powerpoint-esit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2000" y="2816280"/>
            <a:ext cx="1189080" cy="144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2720" y="3643200"/>
            <a:ext cx="1908360" cy="360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32000" y="5336640"/>
            <a:ext cx="1224000" cy="1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56000" y="1557360"/>
            <a:ext cx="5353200" cy="42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9175-791B-4828-953C-7B599DC00ED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CADFB-3933-42B3-888C-F17A38A99A0E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Avoimet Rajapinnat 1.1 määritysten muutokset 18.12.2003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560" y="1378080"/>
            <a:ext cx="85820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äärityksiin on tehty seuraavia muutoks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SOAP sanoman body-osa on varustettu luokan ja metodin tunnuksella, jolloin SOAP-prosessori ohjaa sanoman suoraan sen käsittelijäl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Schemat on jaettu uudestaan siten, että kaikille sanomatyypeille on yhteinen SOAP-headerin schema sekä jokaiselle oma SOAP-bodyn sche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uutosten ansiosta sovellusten rakentaminen helpottuu sekä ajoaikainen suoritus kevene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Nykyisiin sanomiin tehtävät muutoks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Kaikissa sanomissa SOAP body-osan alkuun on lisättävä luokan ja metodin tunnu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Muutokset tulevat voimaan he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mic Sans MS"/>
              </a:rPr>
              <a:t>Uusi sanoma mukana paketis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mic Sans MS"/>
              </a:rPr>
              <a:t>Uutena sanomana on pakettiin lisätty luonnosvaiheessa oleva lähete/hoitopalaute- sekä tämän kuittaussanoma ja näiden sche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64E5-5AAF-4935-9DC0-71893ACE91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18C15-1DE2-4AA3-BB6D-6A2682FE71D7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6600cc"/>
                </a:solidFill>
                <a:latin typeface="Comic Sans MS"/>
              </a:rPr>
              <a:t>Sanomien Header-osan schema</a:t>
            </a:r>
            <a:endParaRPr b="0" lang="en-US" sz="36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581440" cy="316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0200" y="4473720"/>
            <a:ext cx="8389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eader-osan schema on kaikille sanomille yhte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ar:MessageHeader on kaikille pakollinen elemen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muut elementit eivät esiinny kaikissa sanomissa, joten ne on merkitty vapaaehtoisiksi. Sovelluksen on tarkistettava, että käsiteltävänä olevassa sanomassa on tarpeelliset element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Body-osaa ei ole tarkoitus parsia eikä validoida Headerin käsittelyn yhteydess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C246-1F60-4E06-A685-9269FC47830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D0D4-F8C2-4F9C-A73C-64DB60A018D3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188640"/>
            <a:ext cx="81788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eaihiot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19280" y="1268280"/>
            <a:ext cx="3657600" cy="83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2384280"/>
            <a:ext cx="83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Jokaiselle sanomalle on oma Body-osa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Body-osa alkaa esimerkiksi seuraavas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HeadersBody xmlns:arb="URN::refdb-body"&gt;</a:t>
            </a:r>
            <a:br>
              <a:rPr sz="1600"/>
            </a:b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clinical_document_hea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id EX="a123" RT="1.2.246.576.10.Y-tunnus.13.2002.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9280" y="3141720"/>
            <a:ext cx="2665440" cy="5745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7984400">
            <a:off x="5040720" y="2996640"/>
            <a:ext cx="540000" cy="252360"/>
          </a:xfrm>
          <a:prstGeom prst="leftArrow">
            <a:avLst>
              <a:gd name="adj1" fmla="val 50000"/>
              <a:gd name="adj2" fmla="val 5349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5080" y="2563560"/>
            <a:ext cx="25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mic Sans MS"/>
              </a:rPr>
              <a:t>Luokka, joka käsittelee sanomien body-osat. Sama kaikille sanomil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465800">
            <a:off x="503280" y="3680280"/>
            <a:ext cx="539640" cy="252360"/>
          </a:xfrm>
          <a:prstGeom prst="leftArrow">
            <a:avLst>
              <a:gd name="adj1" fmla="val 50000"/>
              <a:gd name="adj2" fmla="val 534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280" y="4219200"/>
            <a:ext cx="18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mic Sans MS"/>
              </a:rPr>
              <a:t>Metodi, joka käsittelee viiteaihi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CB63-E463-4B57-910B-29942D8168D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3F268-AE32-4EC1-A023-570CCFD93FAD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K kuit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95640" y="1484280"/>
            <a:ext cx="160956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6560" y="2349360"/>
            <a:ext cx="839016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yväksyvä kuittaus viiteaihioiden onnistuneeseen siirtoon. Kuittauksessa ei ole mitään sisältöä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AckBody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E24D-9693-44B8-9EC0-F4D499E32B6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C7D43-F44B-4417-9270-7D32D4472D7E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rhekuit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753000"/>
            <a:ext cx="8389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Hylkäävä kuittaus viiteaihioiden siirtoon. Kuittauksessa voi olla virheilmoituksia sekä virheellisiä viiteaihioi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NAKBody xmlns:arb="URN::refdb-body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xmlns="urn::hl7-org/cda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HL7FIErrSeq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592280"/>
            <a:ext cx="6553440" cy="19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077C-E9E5-45B9-A53B-37542F20E8D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D751F-ADBE-4CD0-A6F0-380681C93BEC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atun sisällön kysely viitteen avulla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708280"/>
            <a:ext cx="88218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Viitteen avulla tapahtuva kysely. Viitattu sisältö tunnistetaan set_id elementin avul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QUERY_ID xmlns:arb="URN::refdb-body" Give_Structured_Format="0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set_id EX="20020531111232100"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          RT="1.2.246.537.10.2013120.1.8123.1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arb:QUERY_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48000" y="2023920"/>
            <a:ext cx="2409840" cy="2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4213-2464-433F-A56C-B738DB9EAA0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E3FDC-5DEC-4884-BD9C-4723773B456E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Viitatun sisällön vastaus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1280" y="2997360"/>
            <a:ext cx="8821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Viitatun sisällön palauttami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arb:CDABody xmlns:arb="URN::refdb-body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levelo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&lt;clinical_document_head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71640" y="1773360"/>
            <a:ext cx="5038920" cy="99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4097-9D03-47A3-A5C0-810D3EB8EB2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87DB1-6363-4D8B-B585-6433E42D97E0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1788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Sanomien Body-osien schemat:</a:t>
            </a:r>
            <a:br>
              <a:rPr sz="3200"/>
            </a:br>
            <a:r>
              <a:rPr b="0" lang="fi-FI" sz="3200" spc="-1" strike="noStrike">
                <a:solidFill>
                  <a:srgbClr val="6600cc"/>
                </a:solidFill>
                <a:latin typeface="Comic Sans MS"/>
              </a:rPr>
              <a:t>OK-kuittaussanoma</a:t>
            </a:r>
            <a:endParaRPr b="0" lang="en-US" sz="32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852640"/>
            <a:ext cx="82090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OK Kuittaussanoma (esimerkiksi kuitataan asynkroninen viiteaihioiden lähetys vastaanottokuittauksell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CommitBody xmlns:arb="</a:t>
            </a:r>
            <a:r>
              <a:rPr b="0" lang="fi-FI" sz="1600" spc="-1" strike="noStrike">
                <a:solidFill>
                  <a:srgbClr val="000000"/>
                </a:solidFill>
                <a:latin typeface="Comic Sans MS"/>
              </a:rPr>
              <a:t>URN::refdb-bod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errcode&gt;0&lt;/arb:err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arb:errTxt&gt;OK&lt;/arb:errTx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arb:Commit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/SOAP-ENV: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24360" y="1665360"/>
            <a:ext cx="269532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405C-FC84-404B-9FCA-6F7EC635BFF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5201C-1BFD-4511-B8AE-5C077555752B}" type="datetime1">
              <a:rPr lang="en-US"/>
              <a:t>07/29/26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08:42:28Z</dcterms:created>
  <dc:creator>Timo Itälä</dc:creator>
  <dc:description/>
  <dc:language>en-US</dc:language>
  <cp:lastModifiedBy>Timo Itälä</cp:lastModifiedBy>
  <cp:lastPrinted>2002-02-06T05:50:47Z</cp:lastPrinted>
  <dcterms:modified xsi:type="dcterms:W3CDTF">2004-01-10T20:41:01Z</dcterms:modified>
  <cp:revision>310</cp:revision>
  <dc:subject/>
  <dc:title>Uudet schemat</dc:title>
</cp:coreProperties>
</file>